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0FB3-335F-4D08-B115-D15AF0443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0880-3EB0-4726-8DD8-C56D22FF5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CAEE-D9CD-495F-8CF8-82E59C847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7FE2-9382-4408-BD0E-E73B7F310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C7103-4DFA-41C3-BA2B-09EE27DC0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7D5F7-7FAB-40D3-806C-4BCEE966F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75039-1612-401E-8018-41E4352EE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08299-BBC1-41D8-9B46-AC1B6A9CF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F3A50-FAFF-41BD-9ACC-2A538307E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D5097-BE9E-4F47-9CFD-68ABA97DD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36C2F-2F50-47E1-BE2C-9C7CEB4A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B4287-BB7C-4640-B738-C59D5E52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B7F95-28F1-4FAD-A9C9-01DBB4B8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4C842-26DB-4425-9583-D670EB4FB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08A22-1211-4B89-B4FE-B5813728A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6A7CB-CB00-4073-8647-06BC50E81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D041A-7534-4C43-B55B-3FEC424AA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89602-C4F2-4A71-A421-5B16DC3F2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0C42E-5C6A-4856-9331-CC5BFA206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7B23D-536E-4E77-B4BD-4C7E256A1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2B24D-1ED0-467E-9E28-44E909EBF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7FB87-BE8D-4F82-8958-19D468B27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DF9EB-8F13-434D-9D40-156644C1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93EA9-D0FD-4CBA-A68E-2EE5936D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D8A52-309E-4ED5-AE86-37AAEAFF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862FD-97BE-498B-A227-7220F72CC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7BF07-BA9A-4648-841F-B9C75985D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A7B66-22BF-4BC1-86CA-F909F6CA3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B35A-3BD1-4947-BB42-E461A3EC0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141D-4B28-42A4-AC89-B60532274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F8CC-F12A-486D-9301-29DD5CE18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5080-7851-449B-AC54-473A94EBA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1729-9DE1-4181-9340-E9751BB20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63B2-3B45-478A-B152-27BC35B1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4F4D-A7A0-4F85-9687-F4A8D7CA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8BA9-7B4F-40DF-916B-3090134D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F3998-CF57-4930-9F84-A699DF91C0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01A85-EC87-4FB9-A1B8-35364BD9613F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5F043-EB56-406B-A1EA-7F67E5864513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07880" y="650880"/>
            <a:ext cx="61660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000000"/>
                </a:solidFill>
                <a:latin typeface="Calibri"/>
              </a:rPr>
              <a:t>Odvajanje in čiščenje odpadne vode na območju vodonosnika Ljubljanskega polja – veliki projek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3" name="TextBox 2"/>
          <p:cNvSpPr/>
          <p:nvPr/>
        </p:nvSpPr>
        <p:spPr>
          <a:xfrm>
            <a:off x="3490920" y="4446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do, 25.3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 txBox="1"/>
          <p:nvPr/>
        </p:nvSpPr>
        <p:spPr>
          <a:xfrm>
            <a:off x="331560" y="13917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Calibri"/>
              </a:rPr>
              <a:t>Odbor za spremljanje se seznanja, da se na podlagi ugotovitev predhodnega strokovnega pregleda projektov v pripravi s strani evropske pobude JASPERS projekt »Odvajanje in čiščenje odpadne vode na območju vodonosnika Ljubljanskega polja - Nadgradnja sistema odvajanja  komunalne odpadne vode v občinah Medvode in Vodice ter izgradnja povezovalnega kanala C0 v MOL« in projekt »Odvajanje in čiščenje odpadne vode na območju vodonosnika Ljubljanskega polja - izgradnja III. faze CČN Ljubljana« združita v en veliki projekt z naslovom »Odvajanje in čiščenje odpadne vode na območju vodonosnika Ljubljanskega polja«, ki se vključi v indikativni seznam velikih projektov Operativnega programa za izvajanje Evropske kohezijske politike v obdobju 2014 -202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dlog sklep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Janika Gregorič Zečevič</cp:lastModifiedBy>
  <dcterms:modified xsi:type="dcterms:W3CDTF">2015-03-26T08:16:50Z</dcterms:modified>
  <cp:revision>24</cp:revision>
  <dc:subject/>
  <dc:title>PowerPoint Presentation</dc:title>
</cp:coreProperties>
</file>